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1A24-3255-4FED-9D3B-1900F92B8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7145-873F-40A6-9D4E-AB73E70C8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D632-731A-40EF-828F-E9E56EFFC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4924-F1B8-49D4-8ABE-FEBA2E0FD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0163-580C-4236-AB3A-2C74876E9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1367-469C-4217-A393-0A4162FB5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1D45-781B-4C4D-BE68-E0CC2B76F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2080-A5DD-4CDE-98D3-38061A6B1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CED5-D9D0-42EA-A363-44C883860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1A51-2DC6-4C79-8E9E-95987D6AD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42CB-513C-43AF-AA1B-396047DDD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B17F-21EC-49D7-BC03-D1EB2AF21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9763-A739-473E-82E6-44DFEBFF1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085C-771A-45D0-B23E-0D39A4825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A3C1-9F96-4548-A49B-5B430047A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A793-9FA8-4E6C-8091-E04F34A78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7331-C47E-4C3F-AAD4-C8F5CF995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3264-5CF0-4BAD-A83C-71A485A94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93DD-09A7-4898-9EB8-546766C39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F457-A2B0-4F6C-9070-6C7097F58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8C6B-91C6-4B80-8FD1-61A05ACD0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7418-7AC2-41E0-8F06-48FC3059F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682B-5A5E-47DA-B331-9D90E63C0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360C-FD38-44ED-9859-0123835BC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DE94-9755-4AE3-B555-BE01450A5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ABAF-1AE6-4388-9C34-9EC9B7BEA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20FE-A309-4828-AC98-066FD9342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6912-E1DD-4234-A87D-E0F72C632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BC5C-73E8-471D-BC6B-822BD4F8F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3B7C-97A8-4547-9396-F65E9B53B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006-2A5E-4EF4-BBC6-9B8889C1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C7B-31D7-4FB6-9419-104911D4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69F-DF35-4C20-B1CD-FF561960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B07-855D-4150-8549-C87EA700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959D-DB32-4E91-98EA-8EF9908D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D5DE-1D5E-4115-993E-D60AF028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4CBB-EC08-4C0D-8055-10B8D946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1890-636A-4A20-8BAF-2A5636DE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4BF1-9FFA-4CD8-9528-CA10EF1C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9E3B-B961-4989-ACAF-7447515F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576B-83F3-4329-ACD9-C587F26C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C2AD-175D-4C36-A2BA-FDB72AFF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9C4B-0174-4670-BEC0-17465C14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023D-5833-4A2D-9FD6-76514E76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356F-2A75-489D-8F3B-3B5E4B3C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8238-D011-44DE-9ED2-FCEF75EF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E069-9C1D-41E7-B546-F5517706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1A7-FB49-4C1E-A601-4D5A1B80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5C8E-4FEF-44B2-992B-1B67071A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F78B-D0BC-439C-9CA0-527DF885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215-A11B-438A-B85E-A093333D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2F21-2C89-4AF8-96E4-467A99D5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A0C-30DB-4F83-9E19-151B6EE6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C5C0-CF1B-4DE1-B2E3-F81782C7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AutoShape 3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4949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Line 4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AutoShape 6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5712"/>
                </a:gs>
                <a:gs pos="50000">
                  <a:srgbClr val="ff7518"/>
                </a:gs>
                <a:gs pos="100000">
                  <a:srgbClr val="bd5712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8A48-443B-4642-8DA1-E389AFB90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4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AutoShape 3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4949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4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AutoShape 6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5712"/>
                </a:gs>
                <a:gs pos="50000">
                  <a:srgbClr val="ff7518"/>
                </a:gs>
                <a:gs pos="100000">
                  <a:srgbClr val="bd5712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AutoShape 13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4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9E0B-6CC0-48D9-BED4-D7C02BBCB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7518"/>
                </a:solidFill>
                <a:latin typeface="American Typewriter"/>
              </a:rPr>
              <a:t>METRIC CONVERSION</a:t>
            </a:r>
            <a:endParaRPr b="0" lang="en-US" sz="48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220932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merican Typewriter"/>
              </a:rPr>
              <a:t>How to convert within the metric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5254920" y="6607080"/>
            <a:ext cx="320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© Copyright 2003 - 2004.  M. J. Krech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3619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Let’s add the gram line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1371600" y="342900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114800" y="28195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510552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601992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701028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327672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228600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137160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972360" y="2438280"/>
            <a:ext cx="69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   u          d  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1143000" y="41148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m     hm       dam   m        dm     cm      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l        hl         dal      l          dl         cl        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kg       hg       dag     g        dg         cg        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How to use this device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838080" y="2209680"/>
            <a:ext cx="792504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merican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Look at the problem.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Look at the un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at has a number. On the device p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your pencil 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merican Typewriter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un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merican Typewriter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Move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merican Typewriter"/>
              </a:rPr>
              <a:t>new unit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, counting jumps and noticing the direction of the jum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merican Typewriter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3.  Move decimal in original number the </a:t>
            </a: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same # of spaces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and </a:t>
            </a: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in the same direction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1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389880" indent="-38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Look at the problem.  </a:t>
            </a: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56 cm = _____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Look at the unit that has a number.  </a:t>
            </a: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56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On the device put your pencil 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merican Typewriter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un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"/>
          <p:cNvSpPr/>
          <p:nvPr/>
        </p:nvSpPr>
        <p:spPr>
          <a:xfrm>
            <a:off x="1219320" y="457200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3962520" y="39625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495288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586728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685800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312408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213372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121932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742320" y="358128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  u          d  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99072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m     hm       dam   m        dm     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cm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   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5" descr=""/>
          <p:cNvPicPr/>
          <p:nvPr/>
        </p:nvPicPr>
        <p:blipFill>
          <a:blip r:embed="rId1"/>
          <a:stretch/>
        </p:blipFill>
        <p:spPr>
          <a:xfrm>
            <a:off x="6019920" y="5715000"/>
            <a:ext cx="1676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3" descr=""/>
          <p:cNvPicPr/>
          <p:nvPr/>
        </p:nvPicPr>
        <p:blipFill>
          <a:blip r:embed="rId1"/>
          <a:stretch/>
        </p:blipFill>
        <p:spPr>
          <a:xfrm>
            <a:off x="5791320" y="4800600"/>
            <a:ext cx="1066680" cy="1028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1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1219320" y="403848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3962520" y="342900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495288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586728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685800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312408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21337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1219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818640" y="3048120"/>
            <a:ext cx="69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   u          d  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990720" y="4724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m     hm       dam   m        dm     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cm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699120" y="1981080"/>
            <a:ext cx="755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merican Typewriter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Move to new unit, counting jump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noticing the direction of the jum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2802960" y="5562720"/>
            <a:ext cx="41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One jump to the r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2" descr=""/>
          <p:cNvPicPr/>
          <p:nvPr/>
        </p:nvPicPr>
        <p:blipFill>
          <a:blip r:embed="rId2"/>
          <a:stretch/>
        </p:blipFill>
        <p:spPr>
          <a:xfrm>
            <a:off x="6934320" y="5181480"/>
            <a:ext cx="16761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1" descr=""/>
          <p:cNvPicPr/>
          <p:nvPr/>
        </p:nvPicPr>
        <p:blipFill>
          <a:blip r:embed="rId1"/>
          <a:stretch/>
        </p:blipFill>
        <p:spPr>
          <a:xfrm>
            <a:off x="3733920" y="4648320"/>
            <a:ext cx="1066680" cy="10285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1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609480" y="1828800"/>
            <a:ext cx="7925040" cy="38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merican Typewrite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Move decimal in original number the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same # of spaces and in the same direction.</a:t>
            </a: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7518"/>
              </a:buClr>
              <a:buFont typeface="American Typewrite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56 cm = _____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               </a:t>
            </a:r>
            <a:r>
              <a:rPr b="1" lang="en-US" sz="8000" spc="-1" strike="noStrike">
                <a:solidFill>
                  <a:srgbClr val="000000"/>
                </a:solidFill>
                <a:latin typeface="American Typewriter"/>
              </a:rPr>
              <a:t>56</a:t>
            </a:r>
            <a:r>
              <a:rPr b="1" lang="en-US" sz="8000" spc="-1" strike="noStrike">
                <a:solidFill>
                  <a:srgbClr val="aaaaaa"/>
                </a:solidFill>
                <a:latin typeface="American Typewriter"/>
              </a:rPr>
              <a:t>.</a:t>
            </a:r>
            <a:r>
              <a:rPr b="1" lang="en-US" sz="8000" spc="-1" strike="noStrike">
                <a:solidFill>
                  <a:srgbClr val="000000"/>
                </a:solidFill>
                <a:latin typeface="American Typewriter"/>
              </a:rPr>
              <a:t>0.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760680" y="5638680"/>
            <a:ext cx="672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Move decimal one jump to the r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Add a zero as a placehol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5805720" y="4619520"/>
            <a:ext cx="20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 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One ju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to the righ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10" descr=""/>
          <p:cNvPicPr/>
          <p:nvPr/>
        </p:nvPicPr>
        <p:blipFill>
          <a:blip r:embed="rId2"/>
          <a:stretch/>
        </p:blipFill>
        <p:spPr>
          <a:xfrm rot="18555000">
            <a:off x="4952880" y="3962160"/>
            <a:ext cx="16765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1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990720" y="2514600"/>
            <a:ext cx="74674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56 cm = _____ 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7518"/>
                </a:solidFill>
                <a:latin typeface="American Typewriter"/>
              </a:rPr>
              <a:t>56cm = 560 m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2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Look at the problem.  </a:t>
            </a: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7.25 L = ____ k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Look at the unit that has a number. </a:t>
            </a: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7.25 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On the device put your pencil 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merican Typewriter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un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1219320" y="457200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3962520" y="39625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495288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586728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685800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312408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213372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121932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820080" y="3505320"/>
            <a:ext cx="69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   u          d  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917280" y="5105520"/>
            <a:ext cx="63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l        hl         dal      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       dl         cl        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17" descr=""/>
          <p:cNvPicPr/>
          <p:nvPr/>
        </p:nvPicPr>
        <p:blipFill>
          <a:blip r:embed="rId1"/>
          <a:stretch/>
        </p:blipFill>
        <p:spPr>
          <a:xfrm>
            <a:off x="3886200" y="5638680"/>
            <a:ext cx="167652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3" descr=""/>
          <p:cNvPicPr/>
          <p:nvPr/>
        </p:nvPicPr>
        <p:blipFill>
          <a:blip r:embed="rId1"/>
          <a:stretch/>
        </p:blipFill>
        <p:spPr>
          <a:xfrm>
            <a:off x="2133720" y="480060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4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2" descr=""/>
          <p:cNvPicPr/>
          <p:nvPr/>
        </p:nvPicPr>
        <p:blipFill>
          <a:blip r:embed="rId3"/>
          <a:stretch/>
        </p:blipFill>
        <p:spPr>
          <a:xfrm>
            <a:off x="3048120" y="4724280"/>
            <a:ext cx="1143000" cy="11052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2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merican Typewriter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Move to new unit, counting jump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noticing the direction of the jum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1295280" y="411480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4038480" y="35053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502920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594360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693432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320040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22096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12952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816840" y="304812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   u          d  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92520" y="4648320"/>
            <a:ext cx="63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l        hl         dal      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       dl         cl        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9"/>
          <p:cNvSpPr/>
          <p:nvPr/>
        </p:nvSpPr>
        <p:spPr>
          <a:xfrm>
            <a:off x="3447720" y="5867280"/>
            <a:ext cx="43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Three jumps to the lef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20" descr=""/>
          <p:cNvPicPr/>
          <p:nvPr/>
        </p:nvPicPr>
        <p:blipFill>
          <a:blip r:embed="rId4"/>
          <a:stretch/>
        </p:blipFill>
        <p:spPr>
          <a:xfrm>
            <a:off x="1143000" y="5715000"/>
            <a:ext cx="16765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5" descr=""/>
          <p:cNvPicPr/>
          <p:nvPr/>
        </p:nvPicPr>
        <p:blipFill>
          <a:blip r:embed="rId1"/>
          <a:stretch/>
        </p:blipFill>
        <p:spPr>
          <a:xfrm>
            <a:off x="4038480" y="4876920"/>
            <a:ext cx="762120" cy="736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6" descr=""/>
          <p:cNvPicPr/>
          <p:nvPr/>
        </p:nvPicPr>
        <p:blipFill>
          <a:blip r:embed="rId2"/>
          <a:stretch/>
        </p:blipFill>
        <p:spPr>
          <a:xfrm>
            <a:off x="3276720" y="495288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"/>
          <p:cNvPicPr/>
          <p:nvPr/>
        </p:nvPicPr>
        <p:blipFill>
          <a:blip r:embed="rId3"/>
          <a:stretch/>
        </p:blipFill>
        <p:spPr>
          <a:xfrm>
            <a:off x="2514600" y="4952880"/>
            <a:ext cx="762120" cy="7365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2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(3) Move decimal in original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same # of spaces and in the same     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7.25 L = ____ k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merican Typewriter"/>
              </a:rPr>
              <a:t>      </a:t>
            </a:r>
            <a:r>
              <a:rPr b="1" lang="en-US" sz="8000" spc="-1" strike="noStrike">
                <a:solidFill>
                  <a:srgbClr val="000000"/>
                </a:solidFill>
                <a:latin typeface="American Typewriter"/>
              </a:rPr>
              <a:t>.007</a:t>
            </a:r>
            <a:r>
              <a:rPr b="1" lang="en-US" sz="8000" spc="-1" strike="noStrike">
                <a:solidFill>
                  <a:srgbClr val="aaaaaa"/>
                </a:solidFill>
                <a:latin typeface="American Typewriter"/>
              </a:rPr>
              <a:t>.</a:t>
            </a:r>
            <a:r>
              <a:rPr b="1" lang="en-US" sz="8000" spc="-1" strike="noStrike">
                <a:solidFill>
                  <a:srgbClr val="000000"/>
                </a:solidFill>
                <a:latin typeface="American Typewriter"/>
              </a:rPr>
              <a:t>2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769320" y="5562720"/>
            <a:ext cx="780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Move decimal to the left three jum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Add two zeros as placeho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6483240" y="4267080"/>
            <a:ext cx="21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Three jum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to the lef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14" descr=""/>
          <p:cNvPicPr/>
          <p:nvPr/>
        </p:nvPicPr>
        <p:blipFill>
          <a:blip r:embed="rId4"/>
          <a:stretch/>
        </p:blipFill>
        <p:spPr>
          <a:xfrm>
            <a:off x="685800" y="4114800"/>
            <a:ext cx="147312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2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160" y="2362320"/>
            <a:ext cx="8305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7.25 L = ____ k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7518"/>
                </a:solidFill>
                <a:latin typeface="American Typewriter"/>
              </a:rPr>
              <a:t>7.25 L = .00725 k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542880" y="2678040"/>
            <a:ext cx="1843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7518"/>
                </a:solidFill>
                <a:latin typeface="American Typewriter"/>
              </a:rPr>
              <a:t>The Metric System</a:t>
            </a:r>
            <a:endParaRPr b="0" lang="en-US" sz="5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8440" y="205704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18bb"/>
                </a:solidFill>
                <a:latin typeface="American Typewriter"/>
              </a:rPr>
              <a:t>is based on sets of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04920" y="266688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8080"/>
                </a:solidFill>
                <a:latin typeface="American Typewriter"/>
              </a:rPr>
              <a:t>1 x 10 = 1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8080"/>
                </a:solidFill>
                <a:latin typeface="American Typewriter"/>
              </a:rPr>
              <a:t>10 X 10 =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8080"/>
                </a:solidFill>
                <a:latin typeface="American Typewriter"/>
              </a:rPr>
              <a:t>10 x 100 = 1,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0" descr=""/>
          <p:cNvPicPr/>
          <p:nvPr/>
        </p:nvPicPr>
        <p:blipFill>
          <a:blip r:embed="rId1"/>
          <a:stretch/>
        </p:blipFill>
        <p:spPr>
          <a:xfrm rot="18898200">
            <a:off x="2819160" y="5562360"/>
            <a:ext cx="1473120" cy="6602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3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1566000" y="205740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ry this problem on your 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45,000 g = ____m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6"/>
          <p:cNvSpPr/>
          <p:nvPr/>
        </p:nvSpPr>
        <p:spPr>
          <a:xfrm>
            <a:off x="1600200" y="449568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4343400" y="388620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5334120" y="41148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6248520" y="41148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7238880" y="41148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1"/>
          <p:cNvSpPr/>
          <p:nvPr/>
        </p:nvSpPr>
        <p:spPr>
          <a:xfrm>
            <a:off x="3505320" y="41148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2514600" y="41148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3"/>
          <p:cNvSpPr/>
          <p:nvPr/>
        </p:nvSpPr>
        <p:spPr>
          <a:xfrm>
            <a:off x="1600200" y="41148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1199520" y="3429000"/>
            <a:ext cx="69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   u          d  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1336320" y="5029200"/>
            <a:ext cx="63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g        hg        dag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   g      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dg         cg       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9" descr=""/>
          <p:cNvPicPr/>
          <p:nvPr/>
        </p:nvPicPr>
        <p:blipFill>
          <a:blip r:embed="rId1"/>
          <a:stretch/>
        </p:blipFill>
        <p:spPr>
          <a:xfrm>
            <a:off x="5029200" y="5943600"/>
            <a:ext cx="685800" cy="6620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2" descr=""/>
          <p:cNvPicPr/>
          <p:nvPr/>
        </p:nvPicPr>
        <p:blipFill>
          <a:blip r:embed="rId2"/>
          <a:stretch/>
        </p:blipFill>
        <p:spPr>
          <a:xfrm>
            <a:off x="6400800" y="5943600"/>
            <a:ext cx="685800" cy="662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1" descr=""/>
          <p:cNvPicPr/>
          <p:nvPr/>
        </p:nvPicPr>
        <p:blipFill>
          <a:blip r:embed="rId3"/>
          <a:stretch/>
        </p:blipFill>
        <p:spPr>
          <a:xfrm>
            <a:off x="5638680" y="5943600"/>
            <a:ext cx="685800" cy="662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6" descr=""/>
          <p:cNvPicPr/>
          <p:nvPr/>
        </p:nvPicPr>
        <p:blipFill>
          <a:blip r:embed="rId4"/>
          <a:stretch/>
        </p:blipFill>
        <p:spPr>
          <a:xfrm>
            <a:off x="4038480" y="3962520"/>
            <a:ext cx="914400" cy="882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7" descr=""/>
          <p:cNvPicPr/>
          <p:nvPr/>
        </p:nvPicPr>
        <p:blipFill>
          <a:blip r:embed="rId5"/>
          <a:stretch/>
        </p:blipFill>
        <p:spPr>
          <a:xfrm>
            <a:off x="5029200" y="3962520"/>
            <a:ext cx="914400" cy="882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8" descr=""/>
          <p:cNvPicPr/>
          <p:nvPr/>
        </p:nvPicPr>
        <p:blipFill>
          <a:blip r:embed="rId6"/>
          <a:stretch/>
        </p:blipFill>
        <p:spPr>
          <a:xfrm>
            <a:off x="6095880" y="3962520"/>
            <a:ext cx="914400" cy="882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5" descr=""/>
          <p:cNvPicPr/>
          <p:nvPr/>
        </p:nvPicPr>
        <p:blipFill>
          <a:blip r:embed="rId7"/>
          <a:stretch/>
        </p:blipFill>
        <p:spPr>
          <a:xfrm rot="18898200">
            <a:off x="2412720" y="4140000"/>
            <a:ext cx="1473120" cy="6602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3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80" name="Line 5"/>
          <p:cNvSpPr/>
          <p:nvPr/>
        </p:nvSpPr>
        <p:spPr>
          <a:xfrm>
            <a:off x="1371600" y="312408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6"/>
          <p:cNvSpPr/>
          <p:nvPr/>
        </p:nvSpPr>
        <p:spPr>
          <a:xfrm>
            <a:off x="4114800" y="251460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5105520" y="2743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6019920" y="2743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7010280" y="2743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3276720" y="2743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2286000" y="2743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1371600" y="2743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970920" y="2057400"/>
            <a:ext cx="69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   u          d  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1109880" y="3657600"/>
            <a:ext cx="64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g        hg      dag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     g      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dg         cg        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2612880" y="4800600"/>
            <a:ext cx="46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Three jumps to the r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9"/>
          <p:cNvSpPr/>
          <p:nvPr/>
        </p:nvSpPr>
        <p:spPr>
          <a:xfrm>
            <a:off x="1447920" y="5181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merican Typewriter"/>
              </a:rPr>
              <a:t>45,000</a:t>
            </a:r>
            <a:r>
              <a:rPr b="1" lang="en-US" sz="7200" spc="-1" strike="noStrike">
                <a:solidFill>
                  <a:srgbClr val="aaaaaa"/>
                </a:solidFill>
                <a:latin typeface="American Typewriter"/>
              </a:rPr>
              <a:t>.000</a:t>
            </a:r>
            <a:r>
              <a:rPr b="1" lang="en-US" sz="7200" spc="-1" strike="noStrike">
                <a:solidFill>
                  <a:srgbClr val="000000"/>
                </a:solidFill>
                <a:latin typeface="American Typewriter"/>
              </a:rPr>
              <a:t>.</a:t>
            </a: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3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45,000 g =</a:t>
            </a: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 45,000,000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384280" y="3733920"/>
            <a:ext cx="46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18bb"/>
                </a:solidFill>
                <a:latin typeface="American Typewriter"/>
              </a:rPr>
              <a:t>Three jumps to the r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4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ry this problem on your 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5 cm = ____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4"/>
          <p:cNvSpPr/>
          <p:nvPr/>
        </p:nvSpPr>
        <p:spPr>
          <a:xfrm>
            <a:off x="1219320" y="411480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"/>
          <p:cNvSpPr/>
          <p:nvPr/>
        </p:nvSpPr>
        <p:spPr>
          <a:xfrm>
            <a:off x="3962520" y="35053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6"/>
          <p:cNvSpPr/>
          <p:nvPr/>
        </p:nvSpPr>
        <p:spPr>
          <a:xfrm>
            <a:off x="49528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58672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8"/>
          <p:cNvSpPr/>
          <p:nvPr/>
        </p:nvSpPr>
        <p:spPr>
          <a:xfrm>
            <a:off x="685800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"/>
          <p:cNvSpPr/>
          <p:nvPr/>
        </p:nvSpPr>
        <p:spPr>
          <a:xfrm>
            <a:off x="3124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0"/>
          <p:cNvSpPr/>
          <p:nvPr/>
        </p:nvSpPr>
        <p:spPr>
          <a:xfrm>
            <a:off x="213372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121932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740880" y="312408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  u          d  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3"/>
          <p:cNvSpPr/>
          <p:nvPr/>
        </p:nvSpPr>
        <p:spPr>
          <a:xfrm>
            <a:off x="990720" y="4800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m     hm      dam    m        dm     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cm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   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5" descr=""/>
          <p:cNvPicPr/>
          <p:nvPr/>
        </p:nvPicPr>
        <p:blipFill>
          <a:blip r:embed="rId1"/>
          <a:stretch/>
        </p:blipFill>
        <p:spPr>
          <a:xfrm>
            <a:off x="5791320" y="5257800"/>
            <a:ext cx="1676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36" descr=""/>
          <p:cNvPicPr/>
          <p:nvPr/>
        </p:nvPicPr>
        <p:blipFill>
          <a:blip r:embed="rId1"/>
          <a:stretch/>
        </p:blipFill>
        <p:spPr>
          <a:xfrm>
            <a:off x="4876920" y="5943600"/>
            <a:ext cx="685800" cy="6620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7" descr=""/>
          <p:cNvPicPr/>
          <p:nvPr/>
        </p:nvPicPr>
        <p:blipFill>
          <a:blip r:embed="rId2"/>
          <a:stretch/>
        </p:blipFill>
        <p:spPr>
          <a:xfrm>
            <a:off x="4191120" y="5943600"/>
            <a:ext cx="685800" cy="6620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8" descr=""/>
          <p:cNvPicPr/>
          <p:nvPr/>
        </p:nvPicPr>
        <p:blipFill>
          <a:blip r:embed="rId3"/>
          <a:stretch/>
        </p:blipFill>
        <p:spPr>
          <a:xfrm>
            <a:off x="3581280" y="5943600"/>
            <a:ext cx="685800" cy="6620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9" descr=""/>
          <p:cNvPicPr/>
          <p:nvPr/>
        </p:nvPicPr>
        <p:blipFill>
          <a:blip r:embed="rId4"/>
          <a:stretch/>
        </p:blipFill>
        <p:spPr>
          <a:xfrm>
            <a:off x="2895480" y="5943600"/>
            <a:ext cx="685800" cy="662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5" descr=""/>
          <p:cNvPicPr/>
          <p:nvPr/>
        </p:nvPicPr>
        <p:blipFill>
          <a:blip r:embed="rId5"/>
          <a:stretch/>
        </p:blipFill>
        <p:spPr>
          <a:xfrm>
            <a:off x="5410080" y="5943600"/>
            <a:ext cx="685800" cy="6620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4" descr=""/>
          <p:cNvPicPr/>
          <p:nvPr/>
        </p:nvPicPr>
        <p:blipFill>
          <a:blip r:embed="rId6"/>
          <a:stretch/>
        </p:blipFill>
        <p:spPr>
          <a:xfrm>
            <a:off x="1295280" y="3886200"/>
            <a:ext cx="990720" cy="957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3" descr=""/>
          <p:cNvPicPr/>
          <p:nvPr/>
        </p:nvPicPr>
        <p:blipFill>
          <a:blip r:embed="rId7"/>
          <a:stretch/>
        </p:blipFill>
        <p:spPr>
          <a:xfrm>
            <a:off x="2286000" y="3809880"/>
            <a:ext cx="990720" cy="9590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2" descr=""/>
          <p:cNvPicPr/>
          <p:nvPr/>
        </p:nvPicPr>
        <p:blipFill>
          <a:blip r:embed="rId8"/>
          <a:stretch/>
        </p:blipFill>
        <p:spPr>
          <a:xfrm>
            <a:off x="3276720" y="3809880"/>
            <a:ext cx="1066680" cy="1030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1" descr=""/>
          <p:cNvPicPr/>
          <p:nvPr/>
        </p:nvPicPr>
        <p:blipFill>
          <a:blip r:embed="rId9"/>
          <a:stretch/>
        </p:blipFill>
        <p:spPr>
          <a:xfrm>
            <a:off x="4343400" y="3733920"/>
            <a:ext cx="990720" cy="958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0" descr=""/>
          <p:cNvPicPr/>
          <p:nvPr/>
        </p:nvPicPr>
        <p:blipFill>
          <a:blip r:embed="rId10"/>
          <a:stretch/>
        </p:blipFill>
        <p:spPr>
          <a:xfrm>
            <a:off x="5334120" y="3657600"/>
            <a:ext cx="990360" cy="9572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4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9" name="Line 4"/>
          <p:cNvSpPr/>
          <p:nvPr/>
        </p:nvSpPr>
        <p:spPr>
          <a:xfrm>
            <a:off x="1523880" y="289548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4267080" y="228600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6"/>
          <p:cNvSpPr/>
          <p:nvPr/>
        </p:nvSpPr>
        <p:spPr>
          <a:xfrm>
            <a:off x="5257800" y="2514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7"/>
          <p:cNvSpPr/>
          <p:nvPr/>
        </p:nvSpPr>
        <p:spPr>
          <a:xfrm>
            <a:off x="6172200" y="2514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8"/>
          <p:cNvSpPr/>
          <p:nvPr/>
        </p:nvSpPr>
        <p:spPr>
          <a:xfrm>
            <a:off x="7162920" y="2514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9"/>
          <p:cNvSpPr/>
          <p:nvPr/>
        </p:nvSpPr>
        <p:spPr>
          <a:xfrm>
            <a:off x="3429000" y="2514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0"/>
          <p:cNvSpPr/>
          <p:nvPr/>
        </p:nvSpPr>
        <p:spPr>
          <a:xfrm>
            <a:off x="2438280" y="2514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1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1045440" y="190512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  u          d  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1295280" y="3581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m     hm      dam    m        dm     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cm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   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2887560" y="19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1"/>
          <p:cNvSpPr/>
          <p:nvPr/>
        </p:nvSpPr>
        <p:spPr>
          <a:xfrm>
            <a:off x="2261880" y="4648320"/>
            <a:ext cx="40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Five jumps to the lef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2"/>
          <p:cNvSpPr/>
          <p:nvPr/>
        </p:nvSpPr>
        <p:spPr>
          <a:xfrm>
            <a:off x="2590920" y="5105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merican Typewriter"/>
              </a:rPr>
              <a:t>.00005</a:t>
            </a:r>
            <a:r>
              <a:rPr b="1" lang="en-US" sz="7200" spc="-1" strike="noStrike">
                <a:solidFill>
                  <a:srgbClr val="aaaaaa"/>
                </a:solidFill>
                <a:latin typeface="American Typewriter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29" descr=""/>
          <p:cNvPicPr/>
          <p:nvPr/>
        </p:nvPicPr>
        <p:blipFill>
          <a:blip r:embed="rId11"/>
          <a:stretch/>
        </p:blipFill>
        <p:spPr>
          <a:xfrm>
            <a:off x="6400800" y="4114800"/>
            <a:ext cx="16765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4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1165680" y="3048120"/>
            <a:ext cx="660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5 cm = </a:t>
            </a:r>
            <a:r>
              <a:rPr b="1" lang="en-US" sz="6000" spc="-1" strike="noStrike">
                <a:solidFill>
                  <a:srgbClr val="ff7518"/>
                </a:solidFill>
                <a:latin typeface="American Typewriter"/>
              </a:rPr>
              <a:t>.00005 k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2261880" y="4876920"/>
            <a:ext cx="40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18bb"/>
                </a:solidFill>
                <a:latin typeface="American Typewriter"/>
              </a:rPr>
              <a:t>Five jumps to the lef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s #5-9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Solve these five problems on your own. </a:t>
            </a:r>
            <a:r>
              <a:rPr b="1" lang="en-US" sz="3200" spc="-1" strike="noStrike">
                <a:solidFill>
                  <a:srgbClr val="5918bb"/>
                </a:solidFill>
                <a:latin typeface="American Typewriter"/>
              </a:rPr>
              <a:t>Show your answers to your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You may choose to use the </a:t>
            </a:r>
            <a:r>
              <a:rPr b="1" lang="en-US" sz="3200" spc="-1" strike="noStrike">
                <a:solidFill>
                  <a:srgbClr val="ff7518"/>
                </a:solidFill>
                <a:latin typeface="American Typewriter"/>
              </a:rPr>
              <a:t>King Henry Notes</a:t>
            </a: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You may choose the </a:t>
            </a:r>
            <a:r>
              <a:rPr b="1" lang="en-US" sz="3200" spc="-1" strike="noStrike">
                <a:solidFill>
                  <a:srgbClr val="ff7518"/>
                </a:solidFill>
                <a:latin typeface="American Typewriter"/>
              </a:rPr>
              <a:t>King Henry Staircase</a:t>
            </a: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You may also choose to make a </a:t>
            </a:r>
            <a:r>
              <a:rPr b="1" lang="en-US" sz="3200" spc="-1" strike="noStrike">
                <a:solidFill>
                  <a:srgbClr val="ff7518"/>
                </a:solidFill>
                <a:latin typeface="American Typewriter"/>
              </a:rPr>
              <a:t>King Henry Slider</a:t>
            </a: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s #5-9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(5) 35 mm = ____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(6) 14,443 L = ____ k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(7) 0.00056 kg = ____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(8)35.4 L = ____ 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(9)16 mm = ____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One last caution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429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Be careful N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o count the spot  you start from, where you put your pencil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18bb"/>
                </a:solidFill>
                <a:latin typeface="American Typewriter"/>
              </a:rPr>
              <a:t>    </a:t>
            </a:r>
            <a:r>
              <a:rPr b="1" lang="en-US" sz="2800" spc="-1" strike="noStrike">
                <a:solidFill>
                  <a:srgbClr val="5918bb"/>
                </a:solidFill>
                <a:latin typeface="American Typewriter"/>
              </a:rPr>
              <a:t>Only cou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18bb"/>
                </a:solidFill>
                <a:latin typeface="American Typewriter"/>
              </a:rPr>
              <a:t>      </a:t>
            </a:r>
            <a:r>
              <a:rPr b="1" lang="en-US" sz="2800" spc="-1" strike="noStrike">
                <a:solidFill>
                  <a:srgbClr val="5918bb"/>
                </a:solidFill>
                <a:latin typeface="American Typewriter"/>
              </a:rPr>
              <a:t>the jump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194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3878640" y="403200"/>
            <a:ext cx="218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merican Typewriter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4329720" y="2895480"/>
            <a:ext cx="426492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18bb"/>
                </a:solidFill>
                <a:latin typeface="American Typewriter"/>
              </a:rPr>
              <a:t>You may choose to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</a:t>
            </a:r>
            <a:r>
              <a:rPr b="1" lang="en-US" sz="2400" spc="-1" strike="noStrike">
                <a:solidFill>
                  <a:srgbClr val="5918bb"/>
                </a:solidFill>
                <a:latin typeface="American Typewriter"/>
              </a:rPr>
              <a:t>as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18bb"/>
                </a:solidFill>
                <a:latin typeface="American Typewriter"/>
              </a:rPr>
              <a:t>your teacher for a copy of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18"/>
                </a:solidFill>
                <a:latin typeface="American Typewriter"/>
              </a:rPr>
              <a:t>(1) King Henry Notes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18"/>
                </a:solidFill>
                <a:latin typeface="American Typewriter"/>
              </a:rPr>
              <a:t>(2) King Henry Staircase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18"/>
                </a:solidFill>
                <a:latin typeface="American Typewriter"/>
              </a:rPr>
              <a:t>(3) King Henry Sli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5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619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647960" y="2666880"/>
            <a:ext cx="3429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18bb"/>
                </a:solidFill>
                <a:latin typeface="American Typewriter"/>
              </a:rPr>
              <a:t>Is used by scientists all over the worl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031760" y="228600"/>
            <a:ext cx="649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7518"/>
                </a:solidFill>
                <a:latin typeface="American Typewriter"/>
              </a:rPr>
              <a:t>The Metric Syst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927080" y="3098880"/>
            <a:ext cx="249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51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7518"/>
                </a:solidFill>
                <a:latin typeface="American Typewriter"/>
              </a:rPr>
              <a:t>Do you remember…</a:t>
            </a:r>
            <a:endParaRPr b="0" lang="en-US" sz="60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2895480"/>
            <a:ext cx="2514600" cy="1828800"/>
          </a:xfrm>
          <a:prstGeom prst="rect">
            <a:avLst/>
          </a:prstGeom>
          <a:solidFill>
            <a:srgbClr val="ff9900">
              <a:alpha val="2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18bb"/>
                </a:solidFill>
                <a:latin typeface="American Typewriter"/>
              </a:rPr>
              <a:t>  </a:t>
            </a:r>
            <a:r>
              <a:rPr b="1" lang="en-US" sz="4400" spc="-1" strike="noStrike">
                <a:solidFill>
                  <a:srgbClr val="5918bb"/>
                </a:solidFill>
                <a:latin typeface="American Typewriter"/>
              </a:rPr>
              <a:t>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18bb"/>
                </a:solidFill>
                <a:latin typeface="American Typewriter"/>
              </a:rPr>
              <a:t>Hen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3619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The pneumonic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7560" y="1980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King Henry Died Unexpected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Drinking Chocolate Mi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343400" y="4038480"/>
            <a:ext cx="358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Memorize          thi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27306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You must also know…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5029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  …</a:t>
            </a: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how to convert within the Metric System. </a:t>
            </a:r>
            <a:r>
              <a:rPr b="1" lang="en-US" sz="3200" spc="-1" strike="noStrike">
                <a:solidFill>
                  <a:srgbClr val="ff7518"/>
                </a:solidFill>
                <a:latin typeface="American Typewriter"/>
              </a:rPr>
              <a:t>Here’s a good dev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On your paper draw a line and add 7 tick mar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1219320" y="5410080"/>
            <a:ext cx="6324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4114800" y="480060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5181480" y="5029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6324480" y="5029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7467480" y="5029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3124080" y="5029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2133720" y="5029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1219320" y="5029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Next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Above the tick marks write the abbreviations for the King Henry pneumon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341360" y="415620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4084560" y="354636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5075280" y="37749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5989680" y="37749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6980400" y="37749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3246480" y="37749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2255760" y="37749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1341360" y="37749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1058040" y="3033720"/>
            <a:ext cx="64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k          h         d       u          d         c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1228680" y="6095880"/>
            <a:ext cx="68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Write the units in the middle </a:t>
            </a:r>
            <a:r>
              <a:rPr b="1" lang="en-US" sz="2400" spc="-1" strike="noStrike">
                <a:solidFill>
                  <a:srgbClr val="5918bb"/>
                </a:solidFill>
                <a:latin typeface="American Typewriter"/>
              </a:rPr>
              <a:t>under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the “U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3885480" y="4724280"/>
            <a:ext cx="4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Let’s add the meter line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417680" y="392760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4160880" y="331776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5151600" y="35463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6066000" y="35463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7056360" y="35463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322800" y="35463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2332080" y="35463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1417680" y="35463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978480" y="2895480"/>
            <a:ext cx="66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u          d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189080" y="46134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km     hm     dam    m        dm      cm      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Let’s add the liter line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1447920" y="342900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191120" y="28195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518148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09588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708660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335268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236232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1"/>
          <p:cNvSpPr/>
          <p:nvPr/>
        </p:nvSpPr>
        <p:spPr>
          <a:xfrm>
            <a:off x="144792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1048680" y="2424240"/>
            <a:ext cx="69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   u          d  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1219320" y="411480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m     hm       dam   m        dm     cm      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kL       hL        daL    L          dL     cL        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Deca can also be dk or 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5"/>
          <p:cNvSpPr/>
          <p:nvPr/>
        </p:nvSpPr>
        <p:spPr>
          <a:xfrm flipH="1" flipV="1">
            <a:off x="3581280" y="4876920"/>
            <a:ext cx="76320" cy="7617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3:25:53Z</dcterms:created>
  <dc:creator>Eric Knapp</dc:creator>
  <dc:description/>
  <dc:language>en-US</dc:language>
  <cp:lastModifiedBy>test</cp:lastModifiedBy>
  <dcterms:modified xsi:type="dcterms:W3CDTF">2014-09-22T19:13:08Z</dcterms:modified>
  <cp:revision>119</cp:revision>
  <dc:subject/>
  <dc:title>METRIC CONVERSION</dc:title>
</cp:coreProperties>
</file>